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1706-461C-429F-869A-75AA00315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7F41-AF10-478F-9CF9-2424CCB4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8CA4-E259-4867-B381-BE1A46629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2B7F-1A66-440C-B51F-382FEFFCF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7B40-060F-4A4D-913B-756D045B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CADE-2522-4818-BEFA-E7D7438F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114B-3334-4820-870A-74567ED6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C14A-2A65-4A1E-8975-63E7C407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F7DF-703D-43DC-A985-9EB88A09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B48F-14DA-4AC0-AFB8-53D772F4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1813-E987-4DE7-9C09-14107B7C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C472-F545-4396-A29E-689C9081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634E-A5D8-4F28-860C-9DEB73605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ing of the Civil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6 Chapters 15-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ompromise of 1850 / Election of 1852 Pages 492-504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ompromise of 18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Clay-Webster vs. Calho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ssues / 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Election of 18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Candidates /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Pierce’s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Ostend Manif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nsas-Nebraska Ac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ages 505- 5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Kansas – Nebraska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publican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ativ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Who, what, w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ection of 18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gnific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Dred Scott / Lincoln-Douglas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Pages 511-5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red Scot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rash of 18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incoln vs. Doug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reeport Doct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uture 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rise and fall of John 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1860 Election / End of the Union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Pages 515-5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olitical Party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mocr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stitutional 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epubli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lection of 18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rittenden Comprom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ession/Border Stat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530-54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with Sec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ing Shots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the Border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ng the Comba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ern Advantages/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ern Advantages/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rly Batt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541-5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Clellan vs. L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et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 at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of the Ironcl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ancipation / Life of the Soldi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546-5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ncipation or Procla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 of the Sold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s of African-American Sold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experiences of all Sold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thern Democr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perh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de Turns/End of the Wa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555-56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ys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of the Gettysburg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Tecumseh Sher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/ Impacts of Total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ion of 18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ern Surrender –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3:16:14Z</dcterms:created>
  <dc:creator>School District U46</dc:creator>
  <dc:description/>
  <dc:language>en-US</dc:language>
  <cp:lastModifiedBy>School District U46</cp:lastModifiedBy>
  <dcterms:modified xsi:type="dcterms:W3CDTF">2010-11-04T13:16:34Z</dcterms:modified>
  <cp:revision>1</cp:revision>
  <dc:subject/>
  <dc:title>Coming of the Civil War</dc:title>
</cp:coreProperties>
</file>